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171-2226-43B1-B851-A8AACEB0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9FD-20B7-4D10-9A81-AFA548B4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322-3299-443A-A18D-387D7E15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C9B-90D1-482E-BBB8-966A7CD2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28E-340A-4E3C-9C10-6A806DD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032-7F07-43EC-A5BD-8A53F05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C01-0F45-4342-BCEF-C47CD007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AE2-F0B6-4CC3-8FEE-9062295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20C-2880-40FF-8A52-8FC0611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7AA-5F64-4859-A0D2-A836D85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059-5047-4B1B-8867-EF977CC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21D-72AB-456A-85E6-9C79EB3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6688-E7FF-4B89-9927-B7E5C67A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IOSP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3413160" y="6612840"/>
            <a:ext cx="573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eng.buffalo.edu/shaw/student/m2_design/01_home/ksb/KSB_S2/FoodChainN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0" descr="food web"/>
          <p:cNvPicPr/>
          <p:nvPr/>
        </p:nvPicPr>
        <p:blipFill>
          <a:blip r:embed="rId1"/>
          <a:stretch/>
        </p:blipFill>
        <p:spPr>
          <a:xfrm>
            <a:off x="2514600" y="1981080"/>
            <a:ext cx="41799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3733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 trophic leve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04920" y="25146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ch step in food chain or food web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 limiting nutrien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685800" y="205740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trient that is scarce or cycles slowly in an ecosyste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0880" y="49528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emosynthesis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0880" y="22096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 in which organisms use chemicals to make their own energy in the absence of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ooperation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12960" y="2286000"/>
            <a:ext cx="360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monkey groom"/>
          <p:cNvPicPr/>
          <p:nvPr/>
        </p:nvPicPr>
        <p:blipFill>
          <a:blip r:embed="rId3"/>
          <a:stretch/>
        </p:blipFill>
        <p:spPr>
          <a:xfrm>
            <a:off x="5181480" y="1447920"/>
            <a:ext cx="3619800" cy="3481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3"/>
          <p:cNvSpPr/>
          <p:nvPr/>
        </p:nvSpPr>
        <p:spPr>
          <a:xfrm>
            <a:off x="5485680" y="121860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mark-ju.net/wildlife/images/monkey03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85800" y="5181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symbiosis (parasitism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57200" y="20574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is type of inte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og tick 1"/>
          <p:cNvPicPr/>
          <p:nvPr/>
        </p:nvPicPr>
        <p:blipFill>
          <a:blip r:embed="rId3"/>
          <a:stretch/>
        </p:blipFill>
        <p:spPr>
          <a:xfrm>
            <a:off x="5029200" y="1676520"/>
            <a:ext cx="36147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ompeti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380880" y="198108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type 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1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elk fight"/>
          <p:cNvPicPr/>
          <p:nvPr/>
        </p:nvPicPr>
        <p:blipFill>
          <a:blip r:embed="rId3"/>
          <a:stretch/>
        </p:blipFill>
        <p:spPr>
          <a:xfrm>
            <a:off x="4419720" y="19051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3"/>
          <p:cNvSpPr/>
          <p:nvPr/>
        </p:nvSpPr>
        <p:spPr>
          <a:xfrm>
            <a:off x="5333400" y="1553400"/>
            <a:ext cx="34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wasatchcomputers.net/gallery/elk_fight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335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pred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0880" y="228600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ty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dator"/>
          <p:cNvPicPr/>
          <p:nvPr/>
        </p:nvPicPr>
        <p:blipFill>
          <a:blip r:embed="rId3"/>
          <a:stretch/>
        </p:blipFill>
        <p:spPr>
          <a:xfrm>
            <a:off x="5029200" y="2057400"/>
            <a:ext cx="3406680" cy="3017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5410440" y="1751760"/>
            <a:ext cx="30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personal.ecu.edu/wuenschk/rabbit-wolf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09480" y="4114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 food, shelter, territory/space, mates, or l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533520" y="24382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ll something organisms might compet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7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676520" y="3962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62120" y="2590920"/>
            <a:ext cx="775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roup of similar organisms that live together are called a 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0"/>
          <p:cNvSpPr/>
          <p:nvPr/>
        </p:nvSpPr>
        <p:spPr>
          <a:xfrm>
            <a:off x="380880" y="236232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 factors are the non-living components in an ecosystem like soil, climate, light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066680" y="2362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biot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9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4956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7200" y="2590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ferent populations that live in an area make up a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371600" y="2590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457200" y="1981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totrophs can also be called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2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95280" y="2057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cav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57200" y="20574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_______________ feeds on animals that were killed by other animals or died of natural caus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4495680" y="227880"/>
            <a:ext cx="444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s from:    http://www.utm.edu/~rirwin/symmetry2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8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33520" y="5715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 alga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57200" y="17524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organism on the first trophic level in this food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7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" descr="food chain4"/>
          <p:cNvPicPr/>
          <p:nvPr/>
        </p:nvPicPr>
        <p:blipFill>
          <a:blip r:embed="rId2"/>
          <a:stretch/>
        </p:blipFill>
        <p:spPr>
          <a:xfrm>
            <a:off x="685800" y="3200400"/>
            <a:ext cx="8067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0880" y="5562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It will decreas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ss food will be availabl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14479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ill happen to the mouse population if the Oak trees get a fungus and don’t produce acorns this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food web"/>
          <p:cNvPicPr/>
          <p:nvPr/>
        </p:nvPicPr>
        <p:blipFill>
          <a:blip r:embed="rId2"/>
          <a:stretch/>
        </p:blipFill>
        <p:spPr>
          <a:xfrm>
            <a:off x="3733920" y="1447920"/>
            <a:ext cx="5181480" cy="4120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4"/>
          <p:cNvSpPr/>
          <p:nvPr/>
        </p:nvSpPr>
        <p:spPr>
          <a:xfrm>
            <a:off x="3413160" y="5562000"/>
            <a:ext cx="573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eng.buffalo.edu/shaw/student/m2_design/01_home/ksb/KSB_S2/FoodChainN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5867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centipedes/daph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7160" y="2133720"/>
            <a:ext cx="2873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ritovo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is f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food web9"/>
          <p:cNvPicPr/>
          <p:nvPr/>
        </p:nvPicPr>
        <p:blipFill>
          <a:blip r:embed="rId2"/>
          <a:stretch/>
        </p:blipFill>
        <p:spPr>
          <a:xfrm>
            <a:off x="3429000" y="1219320"/>
            <a:ext cx="5508720" cy="4435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>
            <a:off x="4571280" y="913680"/>
            <a:ext cx="39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Arial"/>
              </a:rPr>
              <a:t>http://www.arcytech.org/java/population/images/food_web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04920" y="5638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Maned goose/ tadpo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33520" y="1600200"/>
            <a:ext cx="2666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bivore in this food web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0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food web9"/>
          <p:cNvPicPr/>
          <p:nvPr/>
        </p:nvPicPr>
        <p:blipFill>
          <a:blip r:embed="rId2"/>
          <a:stretch/>
        </p:blipFill>
        <p:spPr>
          <a:xfrm>
            <a:off x="3809880" y="1600200"/>
            <a:ext cx="51055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Web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04920" y="4876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are autotro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8088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group of organisms that is always at the base of every food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1" descr="return to board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22860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 how the movement of matter through an ecosystem is different than the flow of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3520" y="434340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matter is recycled and moves between organisms and the ecosystem; energy moves in one direction through organisms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4419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itrogen cyc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85800" y="21337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cycle that involves nitrogen fix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38080" y="4572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carbon cyc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4920" y="21337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cycle that includes CO2 in atmosphere, fossil fuels underground, photosynthesis, and re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water cycle (hydrologic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cycle that involves evaporation, transpiration, condensation, and run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0492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itrogen fix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04920" y="259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phase of  the nitrogen cycle that involves bacter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30040" y="2441520"/>
            <a:ext cx="890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 of organisms so similar to one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they can breed and produce fert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5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5800" y="5029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detritiv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1905120"/>
            <a:ext cx="8763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rganisms that eat soil and get their energy by breaking down microorganisms and bacteria in the soil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Ex: mites and earthworm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return to bo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zahm</cp:lastModifiedBy>
  <dcterms:modified xsi:type="dcterms:W3CDTF">2013-12-19T13:32:03Z</dcterms:modified>
  <cp:revision>106</cp:revision>
  <dc:subject/>
  <dc:title>Semester 2</dc:title>
</cp:coreProperties>
</file>